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AB22-A654-4AC7-A16F-6D1C53170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A151-5969-42B2-A9AE-E2E9AA54F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F651-5F33-4B59-B7D7-CB06BA028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7748-BD80-43A8-8D1A-3C2E75643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82C7-8CFB-4941-A3D2-D7D5BC835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4808-AAC6-4900-8F1D-8071024CE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4995-5429-40CA-B34E-C9EB1C520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034D-64D6-4DEE-A981-149452879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B1D2-884B-4E45-9FE6-61FBE456D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A277-FF99-48AC-9FC6-162A8CA9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D5D9-41B4-473B-8FE9-16158FD6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BA0E-9303-430F-B981-FA17331A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03562-B943-4D99-A7E1-5C42E80A636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94920" y="6165720"/>
            <a:ext cx="453564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Myriad Pro"/>
              </a:rPr>
              <a:t>www.FreepptBackgrounds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6"/>
          <p:cNvSpPr/>
          <p:nvPr/>
        </p:nvSpPr>
        <p:spPr>
          <a:xfrm>
            <a:off x="250920" y="5589720"/>
            <a:ext cx="604836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9933"/>
                </a:solidFill>
                <a:latin typeface="Myriad Pro"/>
              </a:rPr>
              <a:t>Free PPT Backgr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560" y="1125360"/>
            <a:ext cx="3476520" cy="9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Slide M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560" y="2349360"/>
            <a:ext cx="50418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4716360" y="4437000"/>
            <a:ext cx="40309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Group Presentation Overview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Project Descriptio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1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95280" y="1196640"/>
            <a:ext cx="34765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2987640" y="2852640"/>
            <a:ext cx="504036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  <a:ea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  <a:ea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hiko</cp:lastModifiedBy>
  <dcterms:modified xsi:type="dcterms:W3CDTF">2013-02-23T21:01:33Z</dcterms:modified>
  <cp:revision>758</cp:revision>
  <dc:subject/>
  <dc:title>Diapositiva 1</dc:title>
</cp:coreProperties>
</file>